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51BA-57C3-4CF7-B782-C81DE02F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E048-8B42-42D5-B399-104D9D00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400E-0DA5-4CE7-A1CC-336B1AD7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F95-ECD7-405A-A359-EC43C3C0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772D-2248-4102-9E33-41BCD00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BB31-629D-4223-B157-7AFA1CF7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CFD1-BF58-4835-9793-166AF51B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490-3463-4D16-9AB9-C260CC69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210F-8B3E-4331-B672-B328B7FF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0492-A7C2-4196-86A9-AA571524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42D-4357-44FD-998E-06A8C058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CD8-1DA6-428A-9692-1AA817E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8F774-7D0B-4BFF-A343-168BFF5702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B2033-3993-4A56-8B63-280D9FF94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Calibri"/>
              </a:rPr>
              <a:t>T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ff6600"/>
                </a:solidFill>
                <a:latin typeface="Calibri"/>
              </a:rPr>
              <a:t>N</a:t>
            </a:r>
            <a:r>
              <a:rPr b="0" lang="en-US" sz="9600" spc="-1" strike="noStrike">
                <a:solidFill>
                  <a:srgbClr val="ff71b8"/>
                </a:solidFill>
                <a:latin typeface="Calibri"/>
              </a:rPr>
              <a:t>Z</a:t>
            </a:r>
            <a:r>
              <a:rPr b="0" lang="en-US" sz="9600" spc="-1" strike="noStrike">
                <a:solidFill>
                  <a:srgbClr val="660066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e1ff00"/>
                </a:solidFill>
                <a:latin typeface="Calibri"/>
              </a:rPr>
              <a:t>N</a:t>
            </a:r>
            <a:r>
              <a:rPr b="0" lang="en-US" sz="9600" spc="-1" strike="noStrike">
                <a:solidFill>
                  <a:srgbClr val="020000"/>
                </a:solidFill>
                <a:latin typeface="Calibri"/>
              </a:rPr>
              <a:t>I</a:t>
            </a:r>
            <a:r>
              <a:rPr b="0" lang="en-US" sz="9600" spc="-1" strike="noStrike">
                <a:solidFill>
                  <a:srgbClr val="33d7ff"/>
                </a:solidFill>
                <a:latin typeface="Calibri"/>
              </a:rPr>
              <a:t>A</a:t>
            </a:r>
            <a:r>
              <a:rPr b="0" lang="en-US" sz="9600" spc="-1" strike="noStrike">
                <a:solidFill>
                  <a:srgbClr val="850000"/>
                </a:solidFill>
                <a:latin typeface="Calibri"/>
              </a:rPr>
              <a:t>…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87"/>
                </a:solidFill>
                <a:latin typeface="Calibri"/>
              </a:rPr>
              <a:t>By: Laura Pardo , Alejandro Barreiro , Daniel Rojas &amp; Meg Sha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tanzania.jpg"/>
          <p:cNvPicPr/>
          <p:nvPr/>
        </p:nvPicPr>
        <p:blipFill>
          <a:blip r:embed="rId1"/>
          <a:stretch/>
        </p:blipFill>
        <p:spPr>
          <a:xfrm>
            <a:off x="6037200" y="0"/>
            <a:ext cx="3106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alibri"/>
              </a:rPr>
              <a:t>Eco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zania have three eco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Thorn for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Tropical grass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Tropical rain fore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images.jpeg"/>
          <p:cNvPicPr/>
          <p:nvPr/>
        </p:nvPicPr>
        <p:blipFill>
          <a:blip r:embed="rId1"/>
          <a:stretch/>
        </p:blipFill>
        <p:spPr>
          <a:xfrm>
            <a:off x="-460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850000"/>
                </a:solidFill>
                <a:latin typeface="Calibri"/>
              </a:rPr>
              <a:t>Capital and fla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apital of Tanzania is Dodoma, ubicate on the east of the count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oordinates of Dodoma are:6.2 south and 35.7 eas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d7ff"/>
                </a:solidFill>
                <a:latin typeface="Calibri"/>
              </a:rPr>
              <a:t>Rivers and important lak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ctoria lake in the north, Tanganyika in the west and Nyssa in the south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images-1.jpeg"/>
          <p:cNvPicPr/>
          <p:nvPr/>
        </p:nvPicPr>
        <p:blipFill>
          <a:blip r:embed="rId2"/>
          <a:stretch/>
        </p:blipFill>
        <p:spPr>
          <a:xfrm rot="19386000">
            <a:off x="5802120" y="2943000"/>
            <a:ext cx="19047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7T21:37:26Z</dcterms:created>
  <dc:creator>laura pardo</dc:creator>
  <dc:description/>
  <dc:language>en-US</dc:language>
  <cp:lastModifiedBy>laura pardo</cp:lastModifiedBy>
  <dcterms:modified xsi:type="dcterms:W3CDTF">2009-09-27T22:28:59Z</dcterms:modified>
  <cp:revision>6</cp:revision>
  <dc:subject/>
  <dc:title>TANZANIA…</dc:title>
</cp:coreProperties>
</file>